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CA30-08EF-4D52-B8BB-A9C90D12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B1E8-BA0B-43BA-9B5F-2D5A8D08D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0F8-3398-41FF-9D16-4EC69ECE2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73EA-C343-474D-B81E-3BF7672A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626-995E-4FC2-BEE9-9DD553B0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B86-E983-45CE-B3BC-18CF7017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43F-24F9-4091-A5B0-A6703928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48C-5A90-4199-AD02-15440753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3B5-3F9A-47C9-8B25-43EF506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4F0-0CE2-45AA-A246-EF84835D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D15-3E80-42A8-93EC-839EEDC6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08F-7B52-4204-BDDC-6E67DDCD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03A-023F-4B33-8873-6C6CEED0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46C-9F71-4100-BB30-9D59D78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B2C-4E28-4210-84DE-4BBEEE4C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64C-78E3-4B35-ACF8-C8E0FAEC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97F0-209C-4878-8CA7-C445F8C69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4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5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6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7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da. Gracias. ¿Tú quieres venir a mi casa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.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á pasa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.¿ Qué  haríamos nosotras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as debemos comer des pues de escuela y hab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Dónde es Ella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8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3809880"/>
            <a:ext cx="34290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la torta.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81952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es viven en la cuidad, es mejo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 casa esta en 21 ST.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es tienen las copas parra la fiesta.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o estas infirma.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eres American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743200" y="3809880"/>
            <a:ext cx="34290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lla abre la puerta para Gabb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281952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n allí en 2p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uántos hermanos tú qui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eres American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32:05Z</dcterms:modified>
  <cp:revision>117</cp:revision>
  <dc:subject/>
  <dc:title>Profile</dc:title>
</cp:coreProperties>
</file>